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558-0768-44EF-9C02-0060431D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194-7E05-410E-B8D3-E41D61D3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368-8E35-451A-8FA9-B45B5B3E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2EC-E7A6-4E42-99D0-8153CF36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D75C-4CFB-4AC4-9896-F507B36F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8F71-0EAC-47D6-BA37-2A0E7459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8686-6E53-41C7-B8B5-EB538AB0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4C91-D5D7-4942-8A81-3948AE7C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A17D-239D-4C97-8692-1396AEFB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AF47-5849-450A-A266-BADDD846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4B77-0C05-4D98-8B20-2FC430FE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FCF-8211-4ACA-854C-78666A26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0ED8-8474-4F40-B45A-414DC477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FD3B-9B79-4879-8033-BA458C0F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1FF2-F5DE-4998-8B04-CE44F604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AAB0-2765-4079-A51A-4025601F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E08B-86E4-4D27-AECC-12A24732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BF96-AC51-45CD-B80F-2C520731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5E24-8F37-44FA-838E-5118F997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1953E-79E9-4EC8-91D1-BC421804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B2B3F-E86C-4127-9DB8-300C44E7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4C14-1D95-4958-B8F9-E043EDCC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2EA-987F-4D23-BC34-5BF262E2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324A9-3118-4BB8-8843-E9E71410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EF193-9EB4-47E9-91EE-957BD3C8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0BDE0-24DC-4846-8A06-5A6082A2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7E49B-6B16-4B71-A240-A0E4A260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53C31-8AD6-4749-B54A-3BF67946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6424E-30DD-4580-8063-1B41F0FE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0FC0-89F6-4E90-85B8-0B028EA5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A6ECF-F7E3-481B-957C-079D34BA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6537E-71E9-4753-8BC7-BE1CA983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1ADE5-665D-43B5-8868-CB614D9B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B6B-C8B1-476A-AE09-17626EE0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14829-65F6-415B-B93F-FE2E037F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11C44-F382-4B85-9396-A15CAB26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54200-3743-4777-8A25-40D7C065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B6887-025F-4641-A5B1-8C66A8F9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C2BCF-68A3-41D4-A65F-CA357302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A1EBF-0276-4D8C-AA7F-55A6D5FE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12EE4-57CD-44C6-8422-A40424BD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0D040-8E5D-41DA-AC67-3F81120D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4AA2E-BC48-4FB1-A43A-25ACE4C2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1FEE-DA35-4600-BCF6-BE7D4A47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0E5-86CA-41AF-A8F6-13282DE6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2763F-0714-4780-9B25-AC00FAE6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45B65-9D56-4122-9D1D-920EBA24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3387F-9A5B-453A-ADF0-765CBEDF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86BBD-34F1-4BCA-8E1F-4D9E1DBE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14CF8-2717-4656-95FA-FF41965D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084B9-5C96-49B0-8971-198EBBE3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DAC43-EB12-4468-8588-6D209046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A8459-DC66-4CBF-BC77-E2B22DEB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14799-5FFB-487B-ACF9-36693975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BED7-030C-40DE-A279-4DCD28AB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50A-45EF-4322-B6F5-C97BE231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A0DD3-15DB-4B54-B0EE-978F315C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D9F48-CE7D-4C1A-A70A-52AD5F2B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15DF3-C974-4D34-B7BF-E9731DE3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BDAA6-2B96-42D5-A97B-301F8318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EF43B-EE6E-4897-B5EC-FF6A9E18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C3587-05E9-400F-82D1-EF7F9D2A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F3701-5C69-4C1A-9975-5D660C3D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34DFA-A558-4373-8C2D-CC6A3D74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3FFCE-D159-47BC-83E5-B88AD253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BD034-30E3-4C4B-B656-09A85DFD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9930-783F-4177-AF73-8E857F9B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FF492-6C9D-4934-A4A9-66682D5F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4093E-4326-4F81-A188-571787A4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A975A-249C-45D1-A45E-6843DC4F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C6D13-FE38-4295-B367-008463D9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06851-CD84-42F2-89E2-F83EDE58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01FD2-5BE7-4D5F-BCB1-2E3B67B1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309B0-5AD5-4C55-8BA9-12DD7409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C12B1-C478-411C-AB5E-34E56594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F18F7-3604-4EEE-939A-A91C81D4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080F8-EF06-466F-B504-3C3C7976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820-174D-4776-AF6F-8CC52A72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65F20-49E8-4A4D-BE7A-91CDCEB6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B2669-C53F-4A78-8D0C-E0E67BC8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A3912-7B59-4719-BEAB-38EA1190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7555E-C8CA-4FB3-9E22-E9E50C1A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AD220-E82F-495A-A5DE-2B927B8F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4DC-109E-4A62-9072-4FB17C12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5BAC-9E40-483D-8081-049470253D86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1011-1EA8-4505-92E4-34EFD6CF336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D8BF-E526-4C08-A129-3A6741BADBD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6F0F-A37D-4C7D-BC79-142F4EFC78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3F32-E1E9-4041-98CE-3242E382726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E25A-EE98-4F31-9404-BB76463211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EECC-8EA7-4A59-A379-99A7AEBE2481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3B2A-DD1B-40E1-90C7-270E871CD6C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1DB6-72EB-403C-B7A6-9824D61BE259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47D4-2901-4FEF-A367-314DA99D05F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8347-EE37-4542-87F1-F3D46D9D10EF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9A97-76D7-4D95-8AFD-CA6ECE9E63F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F075-176C-4B7D-854E-E43C805AA933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3AF4-0B72-4B39-B05B-0A7E9D3A612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774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D:\C21 PowerPoint\Multi_Journal\art for blue\Ch10\Ch10-02a.jpg"/>
          <p:cNvPicPr/>
          <p:nvPr/>
        </p:nvPicPr>
        <p:blipFill>
          <a:blip r:embed="rId2"/>
          <a:stretch/>
        </p:blipFill>
        <p:spPr>
          <a:xfrm>
            <a:off x="457200" y="1623960"/>
            <a:ext cx="6553080" cy="3309840"/>
          </a:xfrm>
          <a:prstGeom prst="rect">
            <a:avLst/>
          </a:prstGeom>
          <a:ln w="0">
            <a:noFill/>
          </a:ln>
        </p:spPr>
      </p:pic>
      <p:sp>
        <p:nvSpPr>
          <p:cNvPr id="305" name="Oval 6"/>
          <p:cNvSpPr/>
          <p:nvPr/>
        </p:nvSpPr>
        <p:spPr>
          <a:xfrm>
            <a:off x="4952880" y="1523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6172200" y="4572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8"/>
          <p:cNvSpPr/>
          <p:nvPr/>
        </p:nvSpPr>
        <p:spPr>
          <a:xfrm>
            <a:off x="7010280" y="25146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9"/>
          <p:cNvSpPr/>
          <p:nvPr/>
        </p:nvSpPr>
        <p:spPr>
          <a:xfrm>
            <a:off x="7086600" y="36576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514440" y="5767560"/>
            <a:ext cx="68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s of person who checked invo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514440" y="5029200"/>
            <a:ext cx="73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Stamp date received and purchase invoice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514440" y="613080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vendor’s terms of s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514440" y="5394240"/>
            <a:ext cx="73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a check mark by each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0-2, page 2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12"/>
          <p:cNvSpPr/>
          <p:nvPr/>
        </p:nvSpPr>
        <p:spPr>
          <a:xfrm>
            <a:off x="559080" y="914400"/>
            <a:ext cx="66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25d"/>
                </a:solidFill>
                <a:latin typeface="Times New Roman"/>
              </a:rPr>
              <a:t>Source document that records a purchase on acc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168b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2. Purchased merchandise on account from Crown Ltd., $2,039.99. Purchase Invoice No. 8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52280" y="175248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52280" y="5373720"/>
            <a:ext cx="6553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s in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ies increase on the cred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152280" y="422928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s are in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ies are increa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52280" y="2876400"/>
            <a:ext cx="5257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cos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liability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5563080" y="2057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7163280" y="407844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6036480" y="284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0"/>
          <p:cNvSpPr/>
          <p:nvPr/>
        </p:nvSpPr>
        <p:spPr>
          <a:xfrm>
            <a:off x="5724000" y="2590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039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1"/>
          <p:cNvSpPr/>
          <p:nvPr/>
        </p:nvSpPr>
        <p:spPr>
          <a:xfrm>
            <a:off x="7679880" y="4878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7400160" y="462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039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0-2, page 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35"/>
          <p:cNvGrpSpPr/>
          <p:nvPr/>
        </p:nvGrpSpPr>
        <p:grpSpPr>
          <a:xfrm>
            <a:off x="5638680" y="1523880"/>
            <a:ext cx="2971800" cy="3881520"/>
            <a:chOff x="5638680" y="1523880"/>
            <a:chExt cx="2971800" cy="3881520"/>
          </a:xfrm>
        </p:grpSpPr>
        <p:grpSp>
          <p:nvGrpSpPr>
            <p:cNvPr id="329" name="Group 34"/>
            <p:cNvGrpSpPr/>
            <p:nvPr/>
          </p:nvGrpSpPr>
          <p:grpSpPr>
            <a:xfrm>
              <a:off x="5638680" y="3581280"/>
              <a:ext cx="2971800" cy="1824120"/>
              <a:chOff x="5638680" y="3581280"/>
              <a:chExt cx="2971800" cy="1824120"/>
            </a:xfrm>
          </p:grpSpPr>
          <p:sp>
            <p:nvSpPr>
              <p:cNvPr id="330" name="Text Box 26"/>
              <p:cNvSpPr/>
              <p:nvPr/>
            </p:nvSpPr>
            <p:spPr>
              <a:xfrm>
                <a:off x="6081480" y="3581280"/>
                <a:ext cx="200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ounts Payab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27"/>
              <p:cNvSpPr/>
              <p:nvPr/>
            </p:nvSpPr>
            <p:spPr>
              <a:xfrm>
                <a:off x="5638680" y="39625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28"/>
              <p:cNvSpPr/>
              <p:nvPr/>
            </p:nvSpPr>
            <p:spPr>
              <a:xfrm>
                <a:off x="708660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33"/>
            <p:cNvGrpSpPr/>
            <p:nvPr/>
          </p:nvGrpSpPr>
          <p:grpSpPr>
            <a:xfrm>
              <a:off x="5638680" y="1523880"/>
              <a:ext cx="2971800" cy="1828800"/>
              <a:chOff x="5638680" y="1523880"/>
              <a:chExt cx="2971800" cy="1828800"/>
            </a:xfrm>
          </p:grpSpPr>
          <p:sp>
            <p:nvSpPr>
              <p:cNvPr id="334" name="Text Box 30"/>
              <p:cNvSpPr/>
              <p:nvPr/>
            </p:nvSpPr>
            <p:spPr>
              <a:xfrm>
                <a:off x="6435000" y="1523880"/>
                <a:ext cx="125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urchas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31"/>
              <p:cNvSpPr/>
              <p:nvPr/>
            </p:nvSpPr>
            <p:spPr>
              <a:xfrm>
                <a:off x="5638680" y="190512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32"/>
              <p:cNvSpPr/>
              <p:nvPr/>
            </p:nvSpPr>
            <p:spPr>
              <a:xfrm>
                <a:off x="7086600" y="190980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774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D:\C21 PowerPoint\Multi_Journal\art for blue\Ch10\Ch10-02b.jpg"/>
          <p:cNvPicPr/>
          <p:nvPr/>
        </p:nvPicPr>
        <p:blipFill>
          <a:blip r:embed="rId2"/>
          <a:srcRect l="0" t="23241" r="0" b="0"/>
          <a:stretch/>
        </p:blipFill>
        <p:spPr>
          <a:xfrm>
            <a:off x="404640" y="1090440"/>
            <a:ext cx="8126640" cy="1473480"/>
          </a:xfrm>
          <a:prstGeom prst="rect">
            <a:avLst/>
          </a:prstGeom>
          <a:ln w="0">
            <a:noFill/>
          </a:ln>
        </p:spPr>
      </p:pic>
      <p:sp>
        <p:nvSpPr>
          <p:cNvPr id="339" name="Oval 5"/>
          <p:cNvSpPr/>
          <p:nvPr/>
        </p:nvSpPr>
        <p:spPr>
          <a:xfrm>
            <a:off x="8381880" y="224784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3809880" y="224784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8"/>
          <p:cNvSpPr/>
          <p:nvPr/>
        </p:nvSpPr>
        <p:spPr>
          <a:xfrm>
            <a:off x="6095880" y="224784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9"/>
          <p:cNvSpPr/>
          <p:nvPr/>
        </p:nvSpPr>
        <p:spPr>
          <a:xfrm>
            <a:off x="1295280" y="16765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09520" y="4091040"/>
            <a:ext cx="77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purchase invoice number in the Doc. No.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20952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209520" y="445464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209520" y="3718080"/>
            <a:ext cx="85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vendor name 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209520" y="481644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0-2, page 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0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D:\C21 PowerPoint\Multi_Journal\art for blue\Ch10\Ch10-02c.jpg"/>
          <p:cNvPicPr/>
          <p:nvPr/>
        </p:nvPicPr>
        <p:blipFill>
          <a:blip r:embed="rId2"/>
          <a:srcRect l="0" t="18466" r="1412" b="0"/>
          <a:stretch/>
        </p:blipFill>
        <p:spPr>
          <a:xfrm>
            <a:off x="420840" y="1139760"/>
            <a:ext cx="8318520" cy="17352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5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0-2, page 2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6"/>
          <p:cNvSpPr/>
          <p:nvPr/>
        </p:nvSpPr>
        <p:spPr>
          <a:xfrm>
            <a:off x="7620120" y="224784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7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8"/>
          <p:cNvSpPr/>
          <p:nvPr/>
        </p:nvSpPr>
        <p:spPr>
          <a:xfrm>
            <a:off x="3505320" y="224784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9"/>
          <p:cNvSpPr/>
          <p:nvPr/>
        </p:nvSpPr>
        <p:spPr>
          <a:xfrm>
            <a:off x="5715000" y="224784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1295280" y="1600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514440" y="4091040"/>
            <a:ext cx="77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heck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514440" y="33526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514440" y="445464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9"/>
          <p:cNvSpPr/>
          <p:nvPr/>
        </p:nvSpPr>
        <p:spPr>
          <a:xfrm>
            <a:off x="514440" y="3718080"/>
            <a:ext cx="69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0"/>
          <p:cNvSpPr/>
          <p:nvPr/>
        </p:nvSpPr>
        <p:spPr>
          <a:xfrm>
            <a:off x="514440" y="481644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34"/>
          <p:cNvGrpSpPr/>
          <p:nvPr/>
        </p:nvGrpSpPr>
        <p:grpSpPr>
          <a:xfrm>
            <a:off x="457200" y="914400"/>
            <a:ext cx="8229600" cy="3962160"/>
            <a:chOff x="457200" y="914400"/>
            <a:chExt cx="8229600" cy="3962160"/>
          </a:xfrm>
        </p:grpSpPr>
        <p:pic>
          <p:nvPicPr>
            <p:cNvPr id="364" name="Picture 4" descr="D:\C21 PowerPoint\Multi_Journal\art for blue\Ch10\Ch10-02e.jpg"/>
            <p:cNvPicPr/>
            <p:nvPr/>
          </p:nvPicPr>
          <p:blipFill>
            <a:blip r:embed="rId1"/>
            <a:srcRect l="0" t="0" r="1412" b="2231"/>
            <a:stretch/>
          </p:blipFill>
          <p:spPr>
            <a:xfrm>
              <a:off x="457200" y="914400"/>
              <a:ext cx="8229600" cy="15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5" name="Group 26"/>
            <p:cNvGrpSpPr/>
            <p:nvPr/>
          </p:nvGrpSpPr>
          <p:grpSpPr>
            <a:xfrm>
              <a:off x="3048120" y="2362320"/>
              <a:ext cx="5638320" cy="2514240"/>
              <a:chOff x="3048120" y="2362320"/>
              <a:chExt cx="5638320" cy="2514240"/>
            </a:xfrm>
          </p:grpSpPr>
          <p:pic>
            <p:nvPicPr>
              <p:cNvPr id="366" name="Picture 16" descr="D:\C21 PowerPoint\Multi_Journal\art for blue\Ch10\Ch10-02d.jpg"/>
              <p:cNvPicPr/>
              <p:nvPr/>
            </p:nvPicPr>
            <p:blipFill>
              <a:blip r:embed="rId2"/>
              <a:srcRect l="0" t="0" r="0" b="45666"/>
              <a:stretch/>
            </p:blipFill>
            <p:spPr>
              <a:xfrm>
                <a:off x="3065400" y="2362320"/>
                <a:ext cx="5613480" cy="2438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7" name="Group 24"/>
              <p:cNvGrpSpPr/>
              <p:nvPr/>
            </p:nvGrpSpPr>
            <p:grpSpPr>
              <a:xfrm>
                <a:off x="3048120" y="4648320"/>
                <a:ext cx="5638320" cy="228240"/>
                <a:chOff x="3048120" y="4648320"/>
                <a:chExt cx="5638320" cy="228240"/>
              </a:xfrm>
            </p:grpSpPr>
            <p:sp>
              <p:nvSpPr>
                <p:cNvPr id="368" name="Freeform 21"/>
                <p:cNvSpPr/>
                <p:nvPr/>
              </p:nvSpPr>
              <p:spPr>
                <a:xfrm>
                  <a:off x="3076920" y="4648320"/>
                  <a:ext cx="5609520" cy="189000"/>
                </a:xfrm>
                <a:prstGeom prst="pie">
                  <a:avLst/>
                </a:prstGeom>
                <a:solidFill>
                  <a:srgbClr val="d4d4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Freeform 22"/>
                <p:cNvSpPr/>
                <p:nvPr/>
              </p:nvSpPr>
              <p:spPr>
                <a:xfrm>
                  <a:off x="3048120" y="4710960"/>
                  <a:ext cx="5638320" cy="165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70" name="Text Box 30"/>
          <p:cNvSpPr/>
          <p:nvPr/>
        </p:nvSpPr>
        <p:spPr>
          <a:xfrm>
            <a:off x="228600" y="32446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tit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3"/>
          <a:stretch/>
        </p:blipFill>
        <p:spPr>
          <a:xfrm>
            <a:off x="450720" y="146160"/>
            <a:ext cx="8242560" cy="774720"/>
          </a:xfrm>
          <a:prstGeom prst="rect">
            <a:avLst/>
          </a:prstGeom>
          <a:ln w="0">
            <a:noFill/>
          </a:ln>
        </p:spPr>
      </p:pic>
      <p:sp>
        <p:nvSpPr>
          <p:cNvPr id="372" name="Oval 5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6"/>
          <p:cNvSpPr/>
          <p:nvPr/>
        </p:nvSpPr>
        <p:spPr>
          <a:xfrm>
            <a:off x="380880" y="16765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7"/>
          <p:cNvSpPr/>
          <p:nvPr/>
        </p:nvSpPr>
        <p:spPr>
          <a:xfrm>
            <a:off x="3581280" y="1600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8"/>
          <p:cNvSpPr/>
          <p:nvPr/>
        </p:nvSpPr>
        <p:spPr>
          <a:xfrm>
            <a:off x="5791320" y="17524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9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7"/>
          <p:cNvSpPr/>
          <p:nvPr/>
        </p:nvSpPr>
        <p:spPr>
          <a:xfrm>
            <a:off x="228600" y="390384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memorandum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8"/>
          <p:cNvSpPr/>
          <p:nvPr/>
        </p:nvSpPr>
        <p:spPr>
          <a:xfrm>
            <a:off x="228600" y="2879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9"/>
          <p:cNvSpPr/>
          <p:nvPr/>
        </p:nvSpPr>
        <p:spPr>
          <a:xfrm>
            <a:off x="228600" y="487836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228600" y="523872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vendor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2"/>
          <p:cNvSpPr/>
          <p:nvPr/>
        </p:nvSpPr>
        <p:spPr>
          <a:xfrm>
            <a:off x="228600" y="559764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33"/>
          <p:cNvSpPr/>
          <p:nvPr/>
        </p:nvSpPr>
        <p:spPr>
          <a:xfrm>
            <a:off x="8381880" y="1600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0-2, page 2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dcterms:modified xsi:type="dcterms:W3CDTF">2012-01-01T19:49:00Z</dcterms:modified>
  <cp:revision>17</cp:revision>
  <dc:subject/>
  <dc:title>ADJUSTING ENTRY FOR SUPPLIES</dc:title>
</cp:coreProperties>
</file>